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CABD-293B-4F7D-A930-EB5D2F2E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FECD-E8C0-423A-8069-55575F99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6679-C0FF-4471-8FC2-8CD8D6B7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65EF-2CAA-4FB8-9B07-F976AFD6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24986-5DA5-462B-9C00-27BBFA58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33AE4-BB65-4DB0-A684-BE51F76F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C02E8-0755-4EEB-9EAB-3E8152E0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F9503-A966-4D80-85AA-471D1A04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635A7-A6D7-46A7-8D94-4808BBC6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CD950-308E-452A-881B-8FC159A9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6A69C-154E-4AAD-B24C-ADFB23EA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6735-CD87-481C-8413-55962440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E9D1B-E0A2-41F1-81B5-3C9E332A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D0C0A-3AE7-40D4-93F3-8C99880A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DF37A-143E-4717-A179-ECDAC829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55BC2-34F6-4DFA-BCDF-D745BA85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A2510-30BA-467A-82DA-D07B9C5D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D1AC3-0B6F-4DE5-B7AD-EA0690D4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2419B-7FCA-49FA-A4F6-C8EE8703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60619-03F9-4A6B-9FAC-90A3142F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9E388-F110-4D5D-AFA3-AE1F28CB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A1F65-8BA6-450F-AA3A-57E173E2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7C86-5FE8-4FA4-8DD2-AF398018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56ED0-C550-4769-98F2-3022A673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2D917-17E5-4E3D-A2DA-4F1B068D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9C56B-FF30-46B4-BCE5-A249CAC4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6F906-46E1-43ED-B940-BEB2B024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B6B87-CF75-407E-9209-7E236BF6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F63FD-3315-4526-81AD-E69F9B03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E06B0-F745-40FE-84EF-76863888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F0F4-B438-460F-8661-BAECDF3C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D6A5-1546-4675-A887-CAF194CE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D35A-096E-482B-90BF-F44B21F0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A995-E8C7-4440-B9BF-940FD0A0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0877-A0BD-404C-AC9B-7C707A0A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3832-643B-46C9-9A0D-C7819867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9A2A-CE39-448D-9018-EDD9CFEEA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BF5E-E505-4AA9-8E39-CA50D269C8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01D6-12BC-4083-816E-691A83969F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7631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Effects of Classroom Seating Arrangements 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n-Task Behavior and Academic Performanc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An Action Research Projec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By Danielle Steg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EDUC 702.2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Fall 200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Related Lit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OS: Theorists and Supporters of Row Sea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ents prefer row seating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McCorskey &amp; MCVetta, 1978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sk orientation is improv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Raviv, Raviv &amp; Reisel, 1990; Weinstein, 1979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76720" y="4594320"/>
            <a:ext cx="328140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Related Lit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ONS: Arguments Supporting Cluster Sea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is ideal for socially facilitated learn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Patton, Snell, Knight &amp; Florman 2001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promotes “innovation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Raviv, Raviv &amp; Reisel, 1990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udents like each other more and communicate better when fac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ach oth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O’Hare, 1998; Bovard, 1951)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895480" y="4950000"/>
            <a:ext cx="2895840" cy="173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Related Lit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NS: Arguments Against Row Sea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w seating impedes a teachers ability to walk between student desks and assess learn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Weaver Dunne, 2001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tement of the Hypothe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R1: Changing the seating arrangement from cluster seating to paired columns over a four week period will increase the on-task behavior of 24 common branch second grade students at PS X during math class, and lead to increased scores on math assessme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ticipa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wo second grade common branch classes in the NYCBO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lassroom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4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student repeating second gra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uster seating (4 groups of 6) 100% of the school d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lassroom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4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student repeating second gra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uster seating (4 groups of 6) 100% of the school d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stru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e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Three Unit Te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udent surve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Survey 1: To be given to both classes prior to action research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Survey 2: To be given to both classes following action research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Survey 3: To be given only to class one following action research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eferenc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onus, M., &amp; Riordan, L. (1998, May 1).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Increasing student on-task behavior through the use of specific seating arrangements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Report No. PS026868).  Chicago, IL: Saint Xavier University.  (ERIC Document Reproduction Service No. ED422129)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ovard, E. Jr. (1951, Nov). The psychology of classroom interaction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The Journal of Educational Research, 45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3), 215-224.  Retrieved October 4, 2009, from the JSTOR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urke, K., &amp; Burke-Samide, B. (2004, July-August).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Required changes in the classroom environment: It’s a matter of design.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Jamaica, New York: Clearing House.  (ERIC Document Reproduction Service No. EJ705442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Callahan, R.  (1962)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Education and the cult of efficiency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Chicago, IL: The University of Chicago press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Church, S.  (2004).  Learning Styles.  Message posted to http://www.teresadybvig.com/learnsty.htm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Dunn, R. (1990, October)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Rita Dunn answers questions on learning styles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Jamaica, NY: Educational Leadership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ERIC Document Reproduction Service No. EJ416423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Dunn, K, &amp; Dunn, R. (1975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).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Learning styles, teaching styles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NASSP Bulletin,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59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37-49.  Retrieved October, 25 2009, from SAGE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Florman, J.  (Fall, 2003)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Psychological &amp; quantitative foundations: Researching classroom seating arrangements.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etrieve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October 4, 2009, from The University of Iowa, College of Education Web site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http://www.education.uiowa.edu/edatiowa/fall03/department/pandq/index.htm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Hastings, N., &amp; Schwieso, J. (1995, December 1).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Tasks and tables: The effects of seating arrangements on task engagemen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in primary classrooms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.  Nottingham, UK: Department of Primary Education. (ERIC Document Reproduction Service No. EJ514371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Koneya, M. (1976, January 1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).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Location and interaction in row-and-column seating arrangements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Environment and Behavior, 8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2), 265-282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.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etrieved September 17, 2009, from SAGE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Lackney, J., &amp; Jacobs, P. (2002, January 1).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Teachers as placemakers: Investigating teachers' use of the physical learning environment in instructional design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Report No. EF006078).  (ERIC Document Reproduction Service No. ED463645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Learning styles: Unblock your true potential. (n.d.).  Retrieved October 4, 2009, from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http://www.learningstyles.net/index.php?option=com_content&amp;task=view&amp;id=20&amp;Itemid=70&amp;lang=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cCroskey, J. C., &amp; MCVetta, R. W. (1978).  Classroom seating arrangements: Instruction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communication theory versus student preferences [Electronic version]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Communication Education,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27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2)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99-111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O’Hare, M. (Autumn, 1998). Classroom design for discussion-based teaching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Journal of Policy Analysis an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Management, 17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(4), 706-720.  Retrieved October 4, 2009, from JSTOR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Patton, J., Snell, J., Knight, W., &amp; Gerken, K. (2001, April 1).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A survey study of elementary classroom seating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designs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Report No. SP040068).  Washington, DC: National Association of School Psychologists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ERIC Document Reproduction Service No. ED454194)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Proshansky, E., &amp; Wolfe, M.  (August, 1974).  The physical setting and open education.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The School Review, 82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4), 556-574.  Retrieved October 4, 2009, from JSTOR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aviv, A., Raviv, A., &amp; Reisel, E. (1990, Spring). Teachers and students: Two different perspectives?!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easuring social climate in the classroom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American Educational Research Journal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27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1), 141-157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etrieved September 17, 2009, from the JSTOR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ichards, J. (2006, Winter)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Setting the Stage for Student Engagement.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Kappa Delta Pi Record.  (ERIC Document Reproduction Service No. EJ724640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idling, Z. (1994, April 1).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The effects of three seating arrangements on teachers' use  of selective interactive verb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behaviors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Report No. SP035202).  New Orleans, LA: American Educational Research Association.  (ERIC Document Reproduction Service No. ED369757)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ilverstein, H., &amp; Stang, D. J. (June, 1976).  Seating position and interaction in triads: A field study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Sociometry, 39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2), 166-170.  Retrieved October 4, 2009, from JSTOR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trong-Wilson, T., &amp; Ellis, J. (2007, April)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Children and place: Reggio Emilia’s environment as third teacher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Montreal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Quebec: Theory Into Practice.  (ERIC Document Reproduction Service No. EJ755994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trong-Wilson, T., &amp; Ellis, J. (2007, April)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Children and place: Reggio Emilia’s environment as third teacher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Montreal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Quebec: Theory Into Practice.  (ERIC Document Reproduction Service No. EJ755994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usi, F. D. (July, 1989). The physical environment of art classrooms: A basis for effective discipline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Ar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Education, 42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4), 37-43.  Retrieved October 4, 2009, from JSTOR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annarka, R., &amp; Ruhl, K. (2008, May 1).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Seating arrangements that promote positive academic and behavioural outcomes: 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review of empirical research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Oxford, UK: Support for Learning.  (ERIC Document Reproduction Service No. EJ793728)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eaver Dunne, D. (2001, April 4).  Do seating arrangements and assignments classroom management?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Educatio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World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.  Retrieved October 4, 2009, from http://www.education-world.com/a_curr/curr330.shtm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einstein, C. (1977, Summer).  Modifying student behavior in an open classroom through changes in the physic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design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American Educational Research Journal, 14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3), 249-262.  Retrieved October 4, 2009, from the SAGE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einstein, C. (1979, Fall). The physical environment of the school: A review of the research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Review of Education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Research, 49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4), 577-610. Retrieved September 23, 2009, from the SAGE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ppendix A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tudent Survey on Seating and Math</a:t>
            </a:r>
            <a:br>
              <a:rPr sz="4000"/>
            </a:b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(To be given to Class 1 and Class 2 prior to action research).</a:t>
            </a:r>
            <a:br>
              <a:rPr sz="4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Garamond"/>
              </a:rPr>
              <a:t>Directions: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Please write the number on the line that matches how you feel about the statement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       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ongly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Agre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Disagre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Strong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gre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Disagree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math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sitting near other people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am good at math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an get my work done during math clas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think that math is hard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sitting near other people while I work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get distracted by the people near me during math clas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people near me distract me from my work.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an work independently during math clas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an’t get my work done during math class.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able of Cont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bstr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Statement of the Problem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Review of Related Literatur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-1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Statement of the Hypothesi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th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Participant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Instrument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Experimental Desig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Proced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ppendix B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tudent Survey on Seating and Math</a:t>
            </a:r>
            <a:br>
              <a:rPr sz="4000"/>
            </a:b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(To be given to Class 1 and Class 2 after action research).</a:t>
            </a:r>
            <a:br>
              <a:rPr sz="4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Garamond"/>
              </a:rPr>
              <a:t>Directions: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Please write the number on the line that matches how you feel about the statement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       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ongly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Agre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Disagre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Strong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gre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Disagree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math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sitting near other people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am good at math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an get my work done during math clas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think that math is hard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sitting near other people while I work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get distracted by the people near me during math clas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people near me distract me from my work.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an work independently during math clas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an’t get my work done during math class.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ppendix C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tudent Survey on Seating and Math</a:t>
            </a:r>
            <a:br>
              <a:rPr sz="4000"/>
            </a:b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(To be given to Class 1 after action research).</a:t>
            </a:r>
            <a:br>
              <a:rPr sz="4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Garamond"/>
              </a:rPr>
              <a:t>Directions: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Please write the number on the line that matches how you feel about the statement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       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ongly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Agre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Disagre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Strong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gre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Disagre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math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sitting in row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am good at math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an get my work done during math class when I sit in row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think that math is hard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sitting in rows better than group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get distracted by the people near me during math clas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people near me distract me from my work.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an work independently during math class when I sit in row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sitting in groups better than rows.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able of Cont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scu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mplic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ference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6-1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ppendic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Appendix 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Appendix B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Appendix 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tatement of the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robl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S X has adopted cluster seating for all classrooms, 100% of the school day.  Independent math practice at PS X is complicated by off-task behavior and would benefit from a less distracting seating arrangement, such as paired columns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429000" y="4800600"/>
            <a:ext cx="1801800" cy="14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Related Lit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Importance of Seating Arrangeme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main cause of off-task behavior is classroom seating arrangeme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Bonus &amp; Riordan, 1998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om arrangement affects the  learning process, student behavior, and student engageme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Florman, 2003; Lackney &amp; Jacobs, 2002; Proshansky &amp; Wolfe, 1974; Richards, 2006; Strong-Wilson &amp; Ellis, 2007; Susi, 1989; Weinstein, 1977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315200" y="5257800"/>
            <a:ext cx="1600200" cy="1395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04920" y="5240160"/>
            <a:ext cx="1600200" cy="13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Related Lit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OS: Research Supporting Row Sea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-task behavior increases with row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Hastings &amp; Schwieso, 1995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971800" y="4343400"/>
            <a:ext cx="2971800" cy="21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Related Lit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OS: Research Supporting Row Sea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ents prefer orderliness and clear views of the teache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Raviv, Raviv &amp; Reisel, 1990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me learners prefer to learn alone or with one partn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Burke &amp; Burke-Samide, 2004; Church, 2004; Dunn &amp; Dunn, 1975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rning style is 60% biologic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Dunn, 1990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Related Lit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OS: Research Supporting Row Sea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w seating reduces talk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Koneya, 1976; Ridling, 1994; Silverstein &amp; Stang, 1976; Wannarka &amp; Ruhl, 2008; Weinstein, 1979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the 1900’s the business model entered the American education system based on the German model of efficienc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Callehan, 1962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48120" y="4648320"/>
            <a:ext cx="2895480" cy="20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Related Lit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OS: Problems With Cluster Seating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reased proximity increases likelihood of off-task conversa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Koneya, 1976; Ridling, 1994; Weinstein, 1979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76720" y="4853160"/>
            <a:ext cx="2106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22:55:40Z</dcterms:created>
  <dc:creator>Danielle Steger</dc:creator>
  <dc:description/>
  <dc:language>en-US</dc:language>
  <cp:lastModifiedBy>Danielle Steger</cp:lastModifiedBy>
  <dcterms:modified xsi:type="dcterms:W3CDTF">2009-12-16T06:22:43Z</dcterms:modified>
  <cp:revision>107</cp:revision>
  <dc:subject/>
  <dc:title>The Effect of Classroom Seating Arrangements on On-Task Behavior and Academic Performance</dc:title>
</cp:coreProperties>
</file>